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0B0-D923-4070-8DE6-3C922276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974-78DB-4E20-93FD-83C49991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59CC-8A4D-4B88-BF4E-707B00B0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CEF8-8404-45FA-A660-277681EE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B30B-9E5B-4E10-BE6C-8FB1FA1A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3225-945D-4208-91C9-3C6DD725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9E76-AE31-4D14-8F04-038A931A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84B2-3283-4087-BE49-5A0E3325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6741-5267-4833-804A-B2F08B9B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1B57-70A4-46EB-ADB9-A87058EE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FBC2-EDA6-423D-B0CC-C4FF54B9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F9B-D8FD-4A93-8BDF-4AFE97C0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E048-4E5D-423E-AD2A-1DF934FFE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nebriatedpress.files.wordpress.com/2009/03/090405-pavlovfreudcartoo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-66600"/>
            <a:ext cx="9144000" cy="6860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alibri"/>
              </a:rPr>
              <a:t>The Garcia Effec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A Most </a:t>
            </a: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Unique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Form of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assical Conditio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As you know, mos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assical Conditioning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is similar in aspect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www.freeinfosociety.com/media/images/2460.jpg"/>
          <p:cNvPicPr/>
          <p:nvPr/>
        </p:nvPicPr>
        <p:blipFill>
          <a:blip r:embed="rId1"/>
          <a:stretch/>
        </p:blipFill>
        <p:spPr>
          <a:xfrm>
            <a:off x="6248520" y="3276720"/>
            <a:ext cx="26859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457200" y="304920"/>
            <a:ext cx="8458200" cy="49698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So…how can such a </a:t>
            </a:r>
            <a:r>
              <a:rPr b="0" i="1" lang="en-US" sz="8000" spc="-1" strike="noStrike">
                <a:solidFill>
                  <a:srgbClr val="ffffff"/>
                </a:solidFill>
                <a:latin typeface="Brush Script Std"/>
                <a:ea typeface="Arabic Typesetting"/>
              </a:rPr>
              <a:t>Wretched</a:t>
            </a:r>
            <a:r>
              <a:rPr b="0" lang="en-US" sz="8000" spc="-1" strike="noStrike">
                <a:solidFill>
                  <a:srgbClr val="ffffff"/>
                </a:solidFill>
                <a:latin typeface="Brush Script Std"/>
                <a:ea typeface="Arabic Typesetting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 type of learning actually help us?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Documents and Settings\jrossnagel\Local Settings\Temporary Internet Files\Content.IE5\1DM7IPRS\MC900151499[1].wmf"/>
          <p:cNvPicPr/>
          <p:nvPr/>
        </p:nvPicPr>
        <p:blipFill>
          <a:blip r:embed="rId1"/>
          <a:stretch/>
        </p:blipFill>
        <p:spPr>
          <a:xfrm>
            <a:off x="5334120" y="3657600"/>
            <a:ext cx="26035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0" y="0"/>
            <a:ext cx="8686800" cy="66776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Animals will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learn to </a:t>
            </a: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NOT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eat things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that could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harm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them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www.petsfoto.com/wp-content/uploads/2010/06/Blue-Poison-Dart-Frog2.jpg"/>
          <p:cNvPicPr/>
          <p:nvPr/>
        </p:nvPicPr>
        <p:blipFill>
          <a:blip r:embed="rId1"/>
          <a:stretch/>
        </p:blipFill>
        <p:spPr>
          <a:xfrm>
            <a:off x="5029200" y="228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t1.gstatic.com/images?q=tbn:ANd9GcRV6kP5-TYGK0Yj4h3yZg9xdLN-jMd8Sr5QexHq5iUtVQsNRtNc"/>
          <p:cNvPicPr/>
          <p:nvPr/>
        </p:nvPicPr>
        <p:blipFill>
          <a:blip r:embed="rId2"/>
          <a:stretch/>
        </p:blipFill>
        <p:spPr>
          <a:xfrm>
            <a:off x="3200400" y="426708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6"/>
          <p:cNvSpPr/>
          <p:nvPr/>
        </p:nvSpPr>
        <p:spPr>
          <a:xfrm>
            <a:off x="77760" y="-86832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77760" y="-86832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0"/>
          <p:cNvSpPr/>
          <p:nvPr/>
        </p:nvSpPr>
        <p:spPr>
          <a:xfrm>
            <a:off x="77760" y="-86832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77760" y="-86832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4"/>
          <p:cNvSpPr/>
          <p:nvPr/>
        </p:nvSpPr>
        <p:spPr>
          <a:xfrm>
            <a:off x="77760" y="-86832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untitled.bmp"/>
          <p:cNvPicPr/>
          <p:nvPr/>
        </p:nvPicPr>
        <p:blipFill>
          <a:blip r:embed="rId3"/>
          <a:stretch/>
        </p:blipFill>
        <p:spPr>
          <a:xfrm>
            <a:off x="5111640" y="4114800"/>
            <a:ext cx="3568680" cy="2581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http://t3.gstatic.com/images?q=tbn:ANd9GcTen9kbpTdsYPnsnuxOCyahvJgs54HMrM9tbVFH8rsXMMff2pX7cQ"/>
          <p:cNvPicPr/>
          <p:nvPr/>
        </p:nvPicPr>
        <p:blipFill>
          <a:blip r:embed="rId4"/>
          <a:stretch/>
        </p:blipFill>
        <p:spPr>
          <a:xfrm>
            <a:off x="6477120" y="198108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0" y="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What About Humans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This type of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learnin’ is indeed 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powerful stuff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How to Make Moonshine At Home How to Make Moonshine at Home"/>
          <p:cNvPicPr/>
          <p:nvPr/>
        </p:nvPicPr>
        <p:blipFill>
          <a:blip r:embed="rId1"/>
          <a:stretch/>
        </p:blipFill>
        <p:spPr>
          <a:xfrm>
            <a:off x="6095880" y="152280"/>
            <a:ext cx="2857680" cy="3762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http://www.securitymarketingguru.com/wp-content/uploads/2009/03/hillbilly-security-marketing1.jpg"/>
          <p:cNvPicPr/>
          <p:nvPr/>
        </p:nvPicPr>
        <p:blipFill>
          <a:blip r:embed="rId2"/>
          <a:stretch/>
        </p:blipFill>
        <p:spPr>
          <a:xfrm>
            <a:off x="7010280" y="4724280"/>
            <a:ext cx="188280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0" y="3808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It take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77933c"/>
                </a:solidFill>
                <a:latin typeface="Calibri"/>
              </a:rPr>
              <a:t>Multiple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77933c"/>
                </a:solidFill>
                <a:latin typeface="Calibri"/>
              </a:rPr>
              <a:t>Trials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to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learn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Pavlov's Dog, Freud's Ca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50760"/>
            <a:ext cx="495288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380880" y="228600"/>
            <a:ext cx="8382240" cy="46659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nd this type of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learning tend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o b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forgotten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over ti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static.desktopnexus.com/thumbnails/205434-bigthumbnail.jpg"/>
          <p:cNvPicPr/>
          <p:nvPr/>
        </p:nvPicPr>
        <p:blipFill>
          <a:blip r:embed="rId1"/>
          <a:stretch/>
        </p:blipFill>
        <p:spPr>
          <a:xfrm>
            <a:off x="3657600" y="2209680"/>
            <a:ext cx="5199120" cy="3905280"/>
          </a:xfrm>
          <a:prstGeom prst="rect">
            <a:avLst/>
          </a:prstGeom>
          <a:ln w="0">
            <a:noFill/>
          </a:ln>
        </p:spPr>
      </p:pic>
      <p:sp>
        <p:nvSpPr>
          <p:cNvPr id="47" name="Oval 3"/>
          <p:cNvSpPr/>
          <p:nvPr/>
        </p:nvSpPr>
        <p:spPr>
          <a:xfrm>
            <a:off x="5562720" y="685800"/>
            <a:ext cx="3429000" cy="1981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4"/>
          <p:cNvSpPr/>
          <p:nvPr/>
        </p:nvSpPr>
        <p:spPr>
          <a:xfrm>
            <a:off x="6781680" y="2666880"/>
            <a:ext cx="228600" cy="152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6705720" y="2895480"/>
            <a:ext cx="228600" cy="152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5943600" y="99072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’s with that b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0" y="228600"/>
            <a:ext cx="914400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BUT NOT WITH THE 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GARCIA EFFECT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It’s a </a:t>
            </a: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rebel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…i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breaks both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rules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www.askthetrucker.com/wp-content/uploads/2010/03/little-tough-guy.jpg"/>
          <p:cNvPicPr/>
          <p:nvPr/>
        </p:nvPicPr>
        <p:blipFill>
          <a:blip r:embed="rId1"/>
          <a:stretch/>
        </p:blipFill>
        <p:spPr>
          <a:xfrm>
            <a:off x="5943600" y="2971800"/>
            <a:ext cx="3003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0" y="380880"/>
            <a:ext cx="8610480" cy="42994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FIRST…You Learn After Onl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ON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TRI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www.tumyeto.com/images/uploaded/butcher-barfing.jpg"/>
          <p:cNvPicPr/>
          <p:nvPr/>
        </p:nvPicPr>
        <p:blipFill>
          <a:blip r:embed="rId1"/>
          <a:stretch/>
        </p:blipFill>
        <p:spPr>
          <a:xfrm>
            <a:off x="2666880" y="1676520"/>
            <a:ext cx="6185160" cy="4194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2438280" y="594360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  more KFC….bleah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2743200" y="2057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 Polat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6"/>
          <p:cNvCxnSpPr/>
          <p:nvPr/>
        </p:nvCxnSpPr>
        <p:spPr>
          <a:xfrm>
            <a:off x="3200400" y="2590920"/>
            <a:ext cx="129600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0" y="380880"/>
            <a:ext cx="8610480" cy="42994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FIRST…You Learn After Onl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ON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TRI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www.tumyeto.com/images/uploaded/butcher-barfing.jpg"/>
          <p:cNvPicPr/>
          <p:nvPr/>
        </p:nvPicPr>
        <p:blipFill>
          <a:blip r:embed="rId1"/>
          <a:stretch/>
        </p:blipFill>
        <p:spPr>
          <a:xfrm>
            <a:off x="2666880" y="1676520"/>
            <a:ext cx="6185160" cy="4194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2438280" y="594360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  more KFC….bleah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743200" y="2057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 Polat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6"/>
          <p:cNvCxnSpPr/>
          <p:nvPr/>
        </p:nvCxnSpPr>
        <p:spPr>
          <a:xfrm>
            <a:off x="3200400" y="2590920"/>
            <a:ext cx="129600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2"/>
          <p:cNvSpPr/>
          <p:nvPr/>
        </p:nvSpPr>
        <p:spPr>
          <a:xfrm>
            <a:off x="0" y="380880"/>
            <a:ext cx="8610480" cy="42994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FIRST…You Learn After Onl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ON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TRI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www.tumyeto.com/images/uploaded/butcher-barfing.jpg"/>
          <p:cNvPicPr/>
          <p:nvPr/>
        </p:nvPicPr>
        <p:blipFill>
          <a:blip r:embed="rId1"/>
          <a:stretch/>
        </p:blipFill>
        <p:spPr>
          <a:xfrm>
            <a:off x="2666880" y="1676520"/>
            <a:ext cx="6185160" cy="4194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0" y="6149880"/>
            <a:ext cx="100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  more Ham and Cheese sandwich….bleah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2743200" y="2057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n Hoo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Straight Arrow Connector 6"/>
          <p:cNvCxnSpPr/>
          <p:nvPr/>
        </p:nvCxnSpPr>
        <p:spPr>
          <a:xfrm>
            <a:off x="3200400" y="2590920"/>
            <a:ext cx="129600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0" y="380880"/>
            <a:ext cx="8610480" cy="42994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FIRST…You Learn After Onl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ON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TRI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www.tumyeto.com/images/uploaded/butcher-barfing.jpg"/>
          <p:cNvPicPr/>
          <p:nvPr/>
        </p:nvPicPr>
        <p:blipFill>
          <a:blip r:embed="rId1"/>
          <a:stretch/>
        </p:blipFill>
        <p:spPr>
          <a:xfrm>
            <a:off x="2666880" y="1676520"/>
            <a:ext cx="6185160" cy="4194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0" y="5867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ndma, that’s not V8 Fusion!”…bleh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2743200" y="1905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rew Laco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6"/>
          <p:cNvCxnSpPr/>
          <p:nvPr/>
        </p:nvCxnSpPr>
        <p:spPr>
          <a:xfrm>
            <a:off x="3200400" y="2590920"/>
            <a:ext cx="129600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t2.gstatic.com/images?q=tbn:ANd9GcQ8JAeQoxTuUdhGPgAHa_ec__8y2rcovdvVnWC1qQ_i0Wdt6WJP"/>
          <p:cNvPicPr/>
          <p:nvPr/>
        </p:nvPicPr>
        <p:blipFill>
          <a:blip r:embed="rId1"/>
          <a:stretch/>
        </p:blipFill>
        <p:spPr>
          <a:xfrm>
            <a:off x="6477120" y="3124080"/>
            <a:ext cx="2104920" cy="2171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t1.gstatic.com/images?q=tbn:ANd9GcTqhfvP_fheQb-Js4RP3zeHgyi1RbTPDXSbw5Tb5NphvxsIXDmm"/>
          <p:cNvPicPr/>
          <p:nvPr/>
        </p:nvPicPr>
        <p:blipFill>
          <a:blip r:embed="rId2"/>
          <a:stretch/>
        </p:blipFill>
        <p:spPr>
          <a:xfrm>
            <a:off x="228600" y="2133720"/>
            <a:ext cx="2104920" cy="2171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ttp://t0.gstatic.com/images?q=tbn:ANd9GcRCrY2f1Y07AcWTmd3NvGK5kWl_e9kQrxizwDtYSV5oyAPd6380"/>
          <p:cNvPicPr/>
          <p:nvPr/>
        </p:nvPicPr>
        <p:blipFill>
          <a:blip r:embed="rId3"/>
          <a:stretch/>
        </p:blipFill>
        <p:spPr>
          <a:xfrm>
            <a:off x="5791320" y="990720"/>
            <a:ext cx="2666880" cy="1714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http://t3.gstatic.com/images?q=tbn:ANd9GcTeX5rTQSwpMD_HUTleTcZT-Wuv_gU1Owzcbelw_QPI4E3gxqLy"/>
          <p:cNvPicPr/>
          <p:nvPr/>
        </p:nvPicPr>
        <p:blipFill>
          <a:blip r:embed="rId4"/>
          <a:stretch/>
        </p:blipFill>
        <p:spPr>
          <a:xfrm>
            <a:off x="2590920" y="3200400"/>
            <a:ext cx="2946240" cy="2209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http://t1.gstatic.com/images?q=tbn:ANd9GcTsfm6VqRhE3tDhgr5qo-BEgzmMMl1jUxoVepaXUOleh5caUXjnMA"/>
          <p:cNvPicPr/>
          <p:nvPr/>
        </p:nvPicPr>
        <p:blipFill>
          <a:blip r:embed="rId5"/>
          <a:stretch/>
        </p:blipFill>
        <p:spPr>
          <a:xfrm>
            <a:off x="685800" y="4495680"/>
            <a:ext cx="1143000" cy="139068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457200" y="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And the learning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PERMAN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2057400" y="57150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’ll never eat  __?__ agai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3:47:40Z</dcterms:created>
  <dc:creator>SASD User</dc:creator>
  <dc:description/>
  <dc:language>en-US</dc:language>
  <cp:lastModifiedBy>John Hampton</cp:lastModifiedBy>
  <dcterms:modified xsi:type="dcterms:W3CDTF">2012-03-12T14:49:45Z</dcterms:modified>
  <cp:revision>12</cp:revision>
  <dc:subject/>
  <dc:title>Slide 1</dc:title>
</cp:coreProperties>
</file>